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7A697-F015-46F0-B93E-F7BA83D37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7BF69-0F22-4970-A256-7D170B8B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31411-D8FA-4328-BD1A-8E8F4490C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E2D90-7451-42C2-8D8E-E5D422D7D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5F788-B304-4725-8437-A8683D698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C6E9-3FD2-433B-BDA1-99ED27FE0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40841-3D7D-4402-A7BB-F7FDF4EC6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0E2F-5040-407C-B724-B6FEE51BC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3FA89-A4A4-4E14-AB05-252A3986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8E06-6682-450F-B57D-C5289B604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4789-8DCC-461C-B89E-66661B2D7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36CE-F5C9-4A34-A46A-761988424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988E-7C29-4181-8BFA-E5D2B9E46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entry school\entry school.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entry TAFE enrolment\entry TAFE enrolment.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detwww.det.nsw.edu.au/directorates/vet_schools/registered-Training-Organisations/private.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entry private provider\Private provider.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s://detwww.det.nsw.edu.au/directorates/vet_schools/registered-Training-Organisations/support.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BOS VCS</a:t>
            </a:r>
            <a:endParaRPr b="0" lang="en-US" sz="6000" spc="-1" strike="noStrike">
              <a:solidFill>
                <a:srgbClr val="000000"/>
              </a:solidFill>
              <a:latin typeface="Arial"/>
            </a:endParaRPr>
          </a:p>
        </p:txBody>
      </p:sp>
      <p:sp>
        <p:nvSpPr>
          <p:cNvPr id="42" name="PlaceHolder 2"/>
          <p:cNvSpPr>
            <a:spLocks noGrp="1"/>
          </p:cNvSpPr>
          <p:nvPr>
            <p:ph type="subTitle"/>
          </p:nvPr>
        </p:nvSpPr>
        <p:spPr>
          <a:xfrm>
            <a:off x="611280" y="4581000"/>
            <a:ext cx="7192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T course and competency entri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2987640" y="2349360"/>
            <a:ext cx="2212920" cy="105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livered VET Course Enrolment</a:t>
            </a:r>
            <a:r>
              <a:rPr b="0" lang="en-US" sz="4000" spc="-1" strike="noStrike">
                <a:solidFill>
                  <a:srgbClr val="000000"/>
                </a:solidFill>
                <a:latin typeface="Arial"/>
              </a:rPr>
              <a:t> Tutorial</a:t>
            </a:r>
            <a:endParaRPr b="0" lang="en-US" sz="4000" spc="-1" strike="noStrike">
              <a:solidFill>
                <a:srgbClr val="000000"/>
              </a:solidFill>
              <a:latin typeface="Arial"/>
            </a:endParaRPr>
          </a:p>
        </p:txBody>
      </p:sp>
      <p:sp>
        <p:nvSpPr>
          <p:cNvPr id="63" name=""/>
          <p:cNvSpPr/>
          <p:nvPr/>
        </p:nvSpPr>
        <p:spPr>
          <a:xfrm>
            <a:off x="684360" y="1989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icon below to access the school delivered VET course</a:t>
            </a:r>
            <a:r>
              <a:rPr b="0" lang="en-US" sz="1800" spc="-1" strike="noStrike">
                <a:solidFill>
                  <a:srgbClr val="000000"/>
                </a:solidFill>
                <a:latin typeface="Arial"/>
              </a:rPr>
              <a:t> </a:t>
            </a:r>
            <a:r>
              <a:rPr b="1" lang="en-US" sz="2400" spc="-1" strike="noStrike">
                <a:solidFill>
                  <a:srgbClr val="000000"/>
                </a:solidFill>
                <a:latin typeface="Arial"/>
              </a:rPr>
              <a:t>enrolment tutorial</a:t>
            </a:r>
            <a:endParaRPr b="0" lang="en-US" sz="2400" spc="-1" strike="noStrike">
              <a:solidFill>
                <a:srgbClr val="000000"/>
              </a:solidFill>
              <a:latin typeface="Arial"/>
            </a:endParaRPr>
          </a:p>
        </p:txBody>
      </p:sp>
      <p:sp>
        <p:nvSpPr>
          <p:cNvPr id="64" name="">
            <a:hlinkClick r:id="rId1"/>
          </p:cNvPr>
          <p:cNvSpPr/>
          <p:nvPr/>
        </p:nvSpPr>
        <p:spPr>
          <a:xfrm>
            <a:off x="2340000" y="3933720"/>
            <a:ext cx="3600360" cy="863640"/>
          </a:xfrm>
          <a:custGeom>
            <a:avLst/>
            <a:gdLst>
              <a:gd name="textAreaLeft" fmla="*/ 55800 w 3600360"/>
              <a:gd name="textAreaRight" fmla="*/ 3544560 w 3600360"/>
              <a:gd name="textAreaTop" fmla="*/ 55800 h 863640"/>
              <a:gd name="textAreaBottom" fmla="*/ 807840 h 863640"/>
            </a:gdLst>
            <a:ahLst/>
            <a:rect l="textAreaLeft" t="textAreaTop" r="textAreaRight" b="textAreaBottom"/>
            <a:pathLst>
              <a:path w="90018" h="21600">
                <a:moveTo>
                  <a:pt x="0" y="0"/>
                </a:moveTo>
                <a:lnTo>
                  <a:pt x="90018" y="0"/>
                </a:lnTo>
                <a:lnTo>
                  <a:pt x="90018" y="21600"/>
                </a:lnTo>
                <a:lnTo>
                  <a:pt x="0" y="21600"/>
                </a:lnTo>
                <a:close/>
              </a:path>
              <a:path fill="lightenLess" w="90018" h="21600">
                <a:moveTo>
                  <a:pt x="0" y="0"/>
                </a:moveTo>
                <a:lnTo>
                  <a:pt x="90018" y="0"/>
                </a:lnTo>
                <a:lnTo>
                  <a:pt x="88618" y="1400"/>
                </a:lnTo>
                <a:lnTo>
                  <a:pt x="1400" y="1400"/>
                </a:lnTo>
                <a:close/>
              </a:path>
              <a:path fill="darken" w="90018" h="21600">
                <a:moveTo>
                  <a:pt x="90018" y="0"/>
                </a:moveTo>
                <a:lnTo>
                  <a:pt x="90018" y="21600"/>
                </a:lnTo>
                <a:lnTo>
                  <a:pt x="88618" y="20200"/>
                </a:lnTo>
                <a:lnTo>
                  <a:pt x="88618" y="1400"/>
                </a:lnTo>
                <a:close/>
              </a:path>
              <a:path fill="darkenLess" w="90018" h="21600">
                <a:moveTo>
                  <a:pt x="90018" y="21600"/>
                </a:moveTo>
                <a:lnTo>
                  <a:pt x="0" y="21600"/>
                </a:lnTo>
                <a:lnTo>
                  <a:pt x="1400" y="20200"/>
                </a:lnTo>
                <a:lnTo>
                  <a:pt x="88618" y="20200"/>
                </a:lnTo>
                <a:close/>
              </a:path>
              <a:path fill="lighten" w="90018" h="21600">
                <a:moveTo>
                  <a:pt x="0" y="21600"/>
                </a:moveTo>
                <a:lnTo>
                  <a:pt x="0" y="0"/>
                </a:lnTo>
                <a:lnTo>
                  <a:pt x="1400" y="1400"/>
                </a:lnTo>
                <a:lnTo>
                  <a:pt x="1400" y="20200"/>
                </a:lnTo>
                <a:close/>
              </a:path>
              <a:path fill="darken" w="90018" h="21600">
                <a:moveTo>
                  <a:pt x="38003" y="7301"/>
                </a:moveTo>
                <a:lnTo>
                  <a:pt x="38916" y="7301"/>
                </a:lnTo>
                <a:lnTo>
                  <a:pt x="39299" y="7667"/>
                </a:lnTo>
                <a:lnTo>
                  <a:pt x="48508" y="7667"/>
                </a:lnTo>
                <a:lnTo>
                  <a:pt x="49065" y="8224"/>
                </a:lnTo>
                <a:lnTo>
                  <a:pt x="49065" y="8772"/>
                </a:lnTo>
                <a:lnTo>
                  <a:pt x="50910" y="8772"/>
                </a:lnTo>
                <a:lnTo>
                  <a:pt x="51276" y="8224"/>
                </a:lnTo>
                <a:lnTo>
                  <a:pt x="52015" y="8224"/>
                </a:lnTo>
                <a:lnTo>
                  <a:pt x="52015" y="13376"/>
                </a:lnTo>
                <a:lnTo>
                  <a:pt x="51276" y="13376"/>
                </a:lnTo>
                <a:lnTo>
                  <a:pt x="50910" y="12828"/>
                </a:lnTo>
                <a:lnTo>
                  <a:pt x="49065" y="12828"/>
                </a:lnTo>
                <a:lnTo>
                  <a:pt x="49065" y="14107"/>
                </a:lnTo>
                <a:lnTo>
                  <a:pt x="39482" y="14107"/>
                </a:lnTo>
                <a:lnTo>
                  <a:pt x="39482" y="9877"/>
                </a:lnTo>
                <a:lnTo>
                  <a:pt x="39299" y="9877"/>
                </a:lnTo>
                <a:lnTo>
                  <a:pt x="38916" y="10243"/>
                </a:lnTo>
                <a:lnTo>
                  <a:pt x="38003"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AFE Delivered </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ET Cours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rolm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24" dur="500">
                                          <p:stCondLst>
                                            <p:cond delay="0"/>
                                          </p:stCondLst>
                                        </p:cTn>
                                        <p:tgtEl>
                                          <p:spTgt spid="6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29" dur="500">
                                          <p:stCondLst>
                                            <p:cond delay="0"/>
                                          </p:stCondLst>
                                        </p:cTn>
                                        <p:tgtEl>
                                          <p:spTgt spid="6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34" dur="500">
                                          <p:stCondLst>
                                            <p:cond delay="0"/>
                                          </p:stCondLst>
                                        </p:cTn>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FE Delivered VET Cour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student for the appropriate VET course</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Developed or Board Endorsed a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value.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nimal Care 2 unit 41911 or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ity 2 unit 16750</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at a NSW TAFE college is delivering the course by entering the appropriate TAFE number in the section adjacent to the Outside School/TAFE sec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urther entry of units of competency is required</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E Delivered Enrolment</a:t>
            </a:r>
            <a:r>
              <a:rPr b="0" lang="en-US" sz="4000" spc="-1" strike="noStrike">
                <a:solidFill>
                  <a:srgbClr val="000000"/>
                </a:solidFill>
                <a:latin typeface="Arial"/>
              </a:rPr>
              <a:t> Tutorial</a:t>
            </a:r>
            <a:endParaRPr b="0" lang="en-US" sz="4000" spc="-1" strike="noStrike">
              <a:solidFill>
                <a:srgbClr val="000000"/>
              </a:solidFill>
              <a:latin typeface="Arial"/>
            </a:endParaRPr>
          </a:p>
        </p:txBody>
      </p:sp>
      <p:sp>
        <p:nvSpPr>
          <p:cNvPr id="69" name=""/>
          <p:cNvSpPr/>
          <p:nvPr/>
        </p:nvSpPr>
        <p:spPr>
          <a:xfrm>
            <a:off x="684360" y="1989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icon below to access the tutorial on TAFE delivered VET course</a:t>
            </a:r>
            <a:r>
              <a:rPr b="0" lang="en-US" sz="1800" spc="-1" strike="noStrike">
                <a:solidFill>
                  <a:srgbClr val="000000"/>
                </a:solidFill>
                <a:latin typeface="Arial"/>
              </a:rPr>
              <a:t> </a:t>
            </a:r>
            <a:r>
              <a:rPr b="1" lang="en-US" sz="2400" spc="-1" strike="noStrike">
                <a:solidFill>
                  <a:srgbClr val="000000"/>
                </a:solidFill>
                <a:latin typeface="Arial"/>
              </a:rPr>
              <a:t>enrolments</a:t>
            </a:r>
            <a:endParaRPr b="0" lang="en-US" sz="2400" spc="-1" strike="noStrike">
              <a:solidFill>
                <a:srgbClr val="000000"/>
              </a:solidFill>
              <a:latin typeface="Arial"/>
            </a:endParaRPr>
          </a:p>
        </p:txBody>
      </p:sp>
      <p:sp>
        <p:nvSpPr>
          <p:cNvPr id="70" name="">
            <a:hlinkClick r:id="rId1"/>
          </p:cNvPr>
          <p:cNvSpPr/>
          <p:nvPr/>
        </p:nvSpPr>
        <p:spPr>
          <a:xfrm>
            <a:off x="2340000" y="3933720"/>
            <a:ext cx="3600360" cy="863640"/>
          </a:xfrm>
          <a:custGeom>
            <a:avLst/>
            <a:gdLst>
              <a:gd name="textAreaLeft" fmla="*/ 55800 w 3600360"/>
              <a:gd name="textAreaRight" fmla="*/ 3544560 w 3600360"/>
              <a:gd name="textAreaTop" fmla="*/ 55800 h 863640"/>
              <a:gd name="textAreaBottom" fmla="*/ 807840 h 863640"/>
            </a:gdLst>
            <a:ahLst/>
            <a:rect l="textAreaLeft" t="textAreaTop" r="textAreaRight" b="textAreaBottom"/>
            <a:pathLst>
              <a:path w="90018" h="21600">
                <a:moveTo>
                  <a:pt x="0" y="0"/>
                </a:moveTo>
                <a:lnTo>
                  <a:pt x="90018" y="0"/>
                </a:lnTo>
                <a:lnTo>
                  <a:pt x="90018" y="21600"/>
                </a:lnTo>
                <a:lnTo>
                  <a:pt x="0" y="21600"/>
                </a:lnTo>
                <a:close/>
              </a:path>
              <a:path fill="lightenLess" w="90018" h="21600">
                <a:moveTo>
                  <a:pt x="0" y="0"/>
                </a:moveTo>
                <a:lnTo>
                  <a:pt x="90018" y="0"/>
                </a:lnTo>
                <a:lnTo>
                  <a:pt x="88618" y="1400"/>
                </a:lnTo>
                <a:lnTo>
                  <a:pt x="1400" y="1400"/>
                </a:lnTo>
                <a:close/>
              </a:path>
              <a:path fill="darken" w="90018" h="21600">
                <a:moveTo>
                  <a:pt x="90018" y="0"/>
                </a:moveTo>
                <a:lnTo>
                  <a:pt x="90018" y="21600"/>
                </a:lnTo>
                <a:lnTo>
                  <a:pt x="88618" y="20200"/>
                </a:lnTo>
                <a:lnTo>
                  <a:pt x="88618" y="1400"/>
                </a:lnTo>
                <a:close/>
              </a:path>
              <a:path fill="darkenLess" w="90018" h="21600">
                <a:moveTo>
                  <a:pt x="90018" y="21600"/>
                </a:moveTo>
                <a:lnTo>
                  <a:pt x="0" y="21600"/>
                </a:lnTo>
                <a:lnTo>
                  <a:pt x="1400" y="20200"/>
                </a:lnTo>
                <a:lnTo>
                  <a:pt x="88618" y="20200"/>
                </a:lnTo>
                <a:close/>
              </a:path>
              <a:path fill="lighten" w="90018" h="21600">
                <a:moveTo>
                  <a:pt x="0" y="21600"/>
                </a:moveTo>
                <a:lnTo>
                  <a:pt x="0" y="0"/>
                </a:lnTo>
                <a:lnTo>
                  <a:pt x="1400" y="1400"/>
                </a:lnTo>
                <a:lnTo>
                  <a:pt x="1400" y="20200"/>
                </a:lnTo>
                <a:close/>
              </a:path>
              <a:path fill="darken" w="90018" h="21600">
                <a:moveTo>
                  <a:pt x="38003" y="7301"/>
                </a:moveTo>
                <a:lnTo>
                  <a:pt x="38916" y="7301"/>
                </a:lnTo>
                <a:lnTo>
                  <a:pt x="39299" y="7667"/>
                </a:lnTo>
                <a:lnTo>
                  <a:pt x="48508" y="7667"/>
                </a:lnTo>
                <a:lnTo>
                  <a:pt x="49065" y="8224"/>
                </a:lnTo>
                <a:lnTo>
                  <a:pt x="49065" y="8772"/>
                </a:lnTo>
                <a:lnTo>
                  <a:pt x="50910" y="8772"/>
                </a:lnTo>
                <a:lnTo>
                  <a:pt x="51276" y="8224"/>
                </a:lnTo>
                <a:lnTo>
                  <a:pt x="52015" y="8224"/>
                </a:lnTo>
                <a:lnTo>
                  <a:pt x="52015" y="13376"/>
                </a:lnTo>
                <a:lnTo>
                  <a:pt x="51276" y="13376"/>
                </a:lnTo>
                <a:lnTo>
                  <a:pt x="50910" y="12828"/>
                </a:lnTo>
                <a:lnTo>
                  <a:pt x="49065" y="12828"/>
                </a:lnTo>
                <a:lnTo>
                  <a:pt x="49065" y="14107"/>
                </a:lnTo>
                <a:lnTo>
                  <a:pt x="39482" y="14107"/>
                </a:lnTo>
                <a:lnTo>
                  <a:pt x="39482" y="9877"/>
                </a:lnTo>
                <a:lnTo>
                  <a:pt x="39299" y="9877"/>
                </a:lnTo>
                <a:lnTo>
                  <a:pt x="38916" y="10243"/>
                </a:lnTo>
                <a:lnTo>
                  <a:pt x="38003"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ovider Delivered VET Courses</a:t>
            </a:r>
            <a:endParaRPr b="0" lang="en-US" sz="4000" spc="-1" strike="noStrike">
              <a:solidFill>
                <a:srgbClr val="000000"/>
              </a:solidFill>
              <a:latin typeface="Arial"/>
            </a:endParaRPr>
          </a:p>
        </p:txBody>
      </p:sp>
      <p:sp>
        <p:nvSpPr>
          <p:cNvPr id="72" name="PlaceHolder 2"/>
          <p:cNvSpPr>
            <a:spLocks noGrp="1"/>
          </p:cNvSpPr>
          <p:nvPr>
            <p:ph/>
          </p:nvPr>
        </p:nvSpPr>
        <p:spPr>
          <a:xfrm>
            <a:off x="468360" y="2060280"/>
            <a:ext cx="8229600" cy="1757160"/>
          </a:xfrm>
          <a:prstGeom prst="rect">
            <a:avLst/>
          </a:prstGeom>
          <a:noFill/>
          <a:ln w="0">
            <a:noFill/>
          </a:ln>
        </p:spPr>
        <p:txBody>
          <a:bodyPr lIns="90000" rIns="90000" tIns="46800" bIns="46800" anchor="t">
            <a:normAutofit fontScale="68000"/>
          </a:bodyPr>
          <a:p>
            <a:pPr marL="233280" indent="-233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vate provider contract must be in place for all private provider delivered VET courses</a:t>
            </a:r>
            <a:endParaRPr b="0" lang="en-US" sz="2800" spc="-1" strike="noStrike">
              <a:solidFill>
                <a:srgbClr val="000000"/>
              </a:solidFill>
              <a:latin typeface="Arial"/>
            </a:endParaRPr>
          </a:p>
          <a:p>
            <a:pPr marL="23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rther information on private provider contracts  and eBOS access for private providers click on the button below</a:t>
            </a:r>
            <a:endParaRPr b="0" lang="en-US" sz="2800" spc="-1" strike="noStrike">
              <a:solidFill>
                <a:srgbClr val="000000"/>
              </a:solidFill>
              <a:latin typeface="Arial"/>
            </a:endParaRPr>
          </a:p>
          <a:p>
            <a:pPr marL="23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p:nvPr/>
        </p:nvSpPr>
        <p:spPr>
          <a:xfrm>
            <a:off x="3922560" y="5941440"/>
            <a:ext cx="24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1"/>
          </p:cNvPr>
          <p:cNvSpPr/>
          <p:nvPr/>
        </p:nvSpPr>
        <p:spPr>
          <a:xfrm>
            <a:off x="3419640" y="5229360"/>
            <a:ext cx="2232000" cy="647640"/>
          </a:xfrm>
          <a:custGeom>
            <a:avLst/>
            <a:gdLst>
              <a:gd name="textAreaLeft" fmla="*/ 41760 w 2232000"/>
              <a:gd name="textAreaRight" fmla="*/ 2190240 w 2232000"/>
              <a:gd name="textAreaTop" fmla="*/ 41760 h 647640"/>
              <a:gd name="textAreaBottom" fmla="*/ 605880 h 647640"/>
            </a:gdLst>
            <a:ahLst/>
            <a:rect l="textAreaLeft" t="textAreaTop" r="textAreaRight" b="textAreaBottom"/>
            <a:pathLst>
              <a:path w="74412" h="21600">
                <a:moveTo>
                  <a:pt x="0" y="0"/>
                </a:moveTo>
                <a:lnTo>
                  <a:pt x="74412" y="0"/>
                </a:lnTo>
                <a:lnTo>
                  <a:pt x="74412" y="21600"/>
                </a:lnTo>
                <a:lnTo>
                  <a:pt x="0" y="21600"/>
                </a:lnTo>
                <a:close/>
              </a:path>
              <a:path fill="lightenLess" w="74412" h="21600">
                <a:moveTo>
                  <a:pt x="0" y="0"/>
                </a:moveTo>
                <a:lnTo>
                  <a:pt x="74412" y="0"/>
                </a:lnTo>
                <a:lnTo>
                  <a:pt x="73012" y="1400"/>
                </a:lnTo>
                <a:lnTo>
                  <a:pt x="1400" y="1400"/>
                </a:lnTo>
                <a:close/>
              </a:path>
              <a:path fill="darken" w="74412" h="21600">
                <a:moveTo>
                  <a:pt x="74412" y="0"/>
                </a:moveTo>
                <a:lnTo>
                  <a:pt x="74412" y="21600"/>
                </a:lnTo>
                <a:lnTo>
                  <a:pt x="73012" y="20200"/>
                </a:lnTo>
                <a:lnTo>
                  <a:pt x="73012" y="1400"/>
                </a:lnTo>
                <a:close/>
              </a:path>
              <a:path fill="darkenLess" w="74412" h="21600">
                <a:moveTo>
                  <a:pt x="74412" y="21600"/>
                </a:moveTo>
                <a:lnTo>
                  <a:pt x="0" y="21600"/>
                </a:lnTo>
                <a:lnTo>
                  <a:pt x="1400" y="20200"/>
                </a:lnTo>
                <a:lnTo>
                  <a:pt x="73012" y="20200"/>
                </a:lnTo>
                <a:close/>
              </a:path>
              <a:path fill="lighten" w="74412" h="21600">
                <a:moveTo>
                  <a:pt x="0" y="21600"/>
                </a:moveTo>
                <a:lnTo>
                  <a:pt x="0" y="0"/>
                </a:lnTo>
                <a:lnTo>
                  <a:pt x="1400" y="1400"/>
                </a:lnTo>
                <a:lnTo>
                  <a:pt x="1400" y="20200"/>
                </a:lnTo>
                <a:close/>
              </a:path>
              <a:path fill="darken" w="74412" h="21600">
                <a:moveTo>
                  <a:pt x="37206" y="14804"/>
                </a:moveTo>
                <a:arcTo wR="1471" hR="1471" stAng="16200000" swAng="-5400000"/>
                <a:arcTo wR="1471" hR="1471" stAng="10800000" swAng="-5400000"/>
                <a:arcTo wR="1471" hR="1471" stAng="5400000" swAng="-5400000"/>
                <a:arcTo wR="1471" hR="1471" stAng="0" swAng="-5400000"/>
                <a:close/>
              </a:path>
              <a:path fill="darken" w="74412" h="21600">
                <a:moveTo>
                  <a:pt x="38311" y="14281"/>
                </a:moveTo>
                <a:lnTo>
                  <a:pt x="38311" y="12323"/>
                </a:lnTo>
                <a:cubicBezTo>
                  <a:pt x="38311" y="11496"/>
                  <a:pt x="38642" y="10800"/>
                  <a:pt x="39243" y="10800"/>
                </a:cubicBezTo>
                <a:cubicBezTo>
                  <a:pt x="40374" y="10800"/>
                  <a:pt x="41271" y="9434"/>
                  <a:pt x="41271" y="7849"/>
                </a:cubicBezTo>
                <a:cubicBezTo>
                  <a:pt x="41271" y="5534"/>
                  <a:pt x="39417" y="3794"/>
                  <a:pt x="37206" y="3794"/>
                </a:cubicBezTo>
                <a:cubicBezTo>
                  <a:pt x="34995" y="3794"/>
                  <a:pt x="33324" y="5534"/>
                  <a:pt x="33324" y="7849"/>
                </a:cubicBezTo>
                <a:lnTo>
                  <a:pt x="35178" y="7849"/>
                </a:lnTo>
                <a:cubicBezTo>
                  <a:pt x="35178" y="6709"/>
                  <a:pt x="36101" y="5821"/>
                  <a:pt x="37206" y="5821"/>
                </a:cubicBezTo>
                <a:cubicBezTo>
                  <a:pt x="38311" y="5821"/>
                  <a:pt x="39243" y="6709"/>
                  <a:pt x="39243" y="7849"/>
                </a:cubicBezTo>
                <a:cubicBezTo>
                  <a:pt x="39243" y="8589"/>
                  <a:pt x="38773" y="9320"/>
                  <a:pt x="38311" y="9320"/>
                </a:cubicBezTo>
                <a:cubicBezTo>
                  <a:pt x="37206" y="9320"/>
                  <a:pt x="36101" y="10800"/>
                  <a:pt x="36101" y="12323"/>
                </a:cubicBezTo>
                <a:lnTo>
                  <a:pt x="36101"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ovider Delivered VET Cours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student for the appropriate VET course and unit val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xample: Hospitality 2 unit 167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intended qualification outcome. This will be the qualification outcome specified on the approved private provider con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Course RTOs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rivate provider delivery the delivering RTO/s </a:t>
            </a:r>
            <a:r>
              <a:rPr b="1" lang="en-US" sz="3200" spc="-1" strike="noStrike">
                <a:solidFill>
                  <a:srgbClr val="000000"/>
                </a:solidFill>
                <a:latin typeface="Arial"/>
              </a:rPr>
              <a:t>must</a:t>
            </a:r>
            <a:r>
              <a:rPr b="0" lang="en-US" sz="3200" spc="-1" strike="noStrike">
                <a:solidFill>
                  <a:srgbClr val="000000"/>
                </a:solidFill>
                <a:latin typeface="Arial"/>
              </a:rPr>
              <a:t> be specified for each VET course ( as per private provider con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rivate RTO must be  entered in the RTO Course delivery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may be more than one  RTO entered for each VET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the Issuing RT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 VET enrolment with a private provider, the issuing RTO must be specifi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relevant RTO from the drop down bo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providers will </a:t>
            </a:r>
            <a:r>
              <a:rPr b="1" lang="en-US" sz="3200" spc="-1" strike="noStrike">
                <a:solidFill>
                  <a:srgbClr val="000000"/>
                </a:solidFill>
                <a:latin typeface="Arial"/>
              </a:rPr>
              <a:t>not </a:t>
            </a:r>
            <a:r>
              <a:rPr b="0" lang="en-US" sz="3200" spc="-1" strike="noStrike">
                <a:solidFill>
                  <a:srgbClr val="000000"/>
                </a:solidFill>
                <a:latin typeface="Arial"/>
              </a:rPr>
              <a:t>have access to enter competencies and outcomes unless their RTO has been correctly entered in eB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Competenci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competencies to be undertaken with the private provider in this calendar year, as recorded on the approved private provider con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ivate providers enter competencies and outcomes directly into eBOS. The RTO and qualification </a:t>
            </a:r>
            <a:r>
              <a:rPr b="1" lang="en-US" sz="3200" spc="-1" strike="noStrike">
                <a:solidFill>
                  <a:srgbClr val="000000"/>
                </a:solidFill>
                <a:latin typeface="Arial"/>
              </a:rPr>
              <a:t>must</a:t>
            </a:r>
            <a:r>
              <a:rPr b="0" lang="en-US" sz="3200" spc="-1" strike="noStrike">
                <a:solidFill>
                  <a:srgbClr val="000000"/>
                </a:solidFill>
                <a:latin typeface="Arial"/>
              </a:rPr>
              <a:t> be entered by the school before the private provider can access eBO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Provider Delivered Enrolment</a:t>
            </a:r>
            <a:r>
              <a:rPr b="0" lang="en-US" sz="4000" spc="-1" strike="noStrike">
                <a:solidFill>
                  <a:srgbClr val="000000"/>
                </a:solidFill>
                <a:latin typeface="Arial"/>
              </a:rPr>
              <a:t> Tutorial</a:t>
            </a:r>
            <a:endParaRPr b="0" lang="en-US" sz="4000" spc="-1" strike="noStrike">
              <a:solidFill>
                <a:srgbClr val="000000"/>
              </a:solidFill>
              <a:latin typeface="Arial"/>
            </a:endParaRPr>
          </a:p>
        </p:txBody>
      </p:sp>
      <p:sp>
        <p:nvSpPr>
          <p:cNvPr id="84" name=""/>
          <p:cNvSpPr/>
          <p:nvPr/>
        </p:nvSpPr>
        <p:spPr>
          <a:xfrm>
            <a:off x="684360" y="1989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on the icon below to access the tutorial on Private Provider delivered VET course</a:t>
            </a:r>
            <a:r>
              <a:rPr b="0" lang="en-US" sz="1800" spc="-1" strike="noStrike">
                <a:solidFill>
                  <a:srgbClr val="000000"/>
                </a:solidFill>
                <a:latin typeface="Arial"/>
              </a:rPr>
              <a:t> </a:t>
            </a:r>
            <a:r>
              <a:rPr b="1" lang="en-US" sz="2400" spc="-1" strike="noStrike">
                <a:solidFill>
                  <a:srgbClr val="000000"/>
                </a:solidFill>
                <a:latin typeface="Arial"/>
              </a:rPr>
              <a:t>enrolments</a:t>
            </a:r>
            <a:endParaRPr b="0" lang="en-US" sz="2400" spc="-1" strike="noStrike">
              <a:solidFill>
                <a:srgbClr val="000000"/>
              </a:solidFill>
              <a:latin typeface="Arial"/>
            </a:endParaRPr>
          </a:p>
        </p:txBody>
      </p:sp>
      <p:sp>
        <p:nvSpPr>
          <p:cNvPr id="85" name="">
            <a:hlinkClick r:id="rId1"/>
          </p:cNvPr>
          <p:cNvSpPr/>
          <p:nvPr/>
        </p:nvSpPr>
        <p:spPr>
          <a:xfrm>
            <a:off x="2340000" y="3933720"/>
            <a:ext cx="3600360" cy="863640"/>
          </a:xfrm>
          <a:custGeom>
            <a:avLst/>
            <a:gdLst>
              <a:gd name="textAreaLeft" fmla="*/ 55800 w 3600360"/>
              <a:gd name="textAreaRight" fmla="*/ 3544560 w 3600360"/>
              <a:gd name="textAreaTop" fmla="*/ 55800 h 863640"/>
              <a:gd name="textAreaBottom" fmla="*/ 807840 h 863640"/>
            </a:gdLst>
            <a:ahLst/>
            <a:rect l="textAreaLeft" t="textAreaTop" r="textAreaRight" b="textAreaBottom"/>
            <a:pathLst>
              <a:path w="90018" h="21600">
                <a:moveTo>
                  <a:pt x="0" y="0"/>
                </a:moveTo>
                <a:lnTo>
                  <a:pt x="90018" y="0"/>
                </a:lnTo>
                <a:lnTo>
                  <a:pt x="90018" y="21600"/>
                </a:lnTo>
                <a:lnTo>
                  <a:pt x="0" y="21600"/>
                </a:lnTo>
                <a:close/>
              </a:path>
              <a:path fill="lightenLess" w="90018" h="21600">
                <a:moveTo>
                  <a:pt x="0" y="0"/>
                </a:moveTo>
                <a:lnTo>
                  <a:pt x="90018" y="0"/>
                </a:lnTo>
                <a:lnTo>
                  <a:pt x="88618" y="1400"/>
                </a:lnTo>
                <a:lnTo>
                  <a:pt x="1400" y="1400"/>
                </a:lnTo>
                <a:close/>
              </a:path>
              <a:path fill="darken" w="90018" h="21600">
                <a:moveTo>
                  <a:pt x="90018" y="0"/>
                </a:moveTo>
                <a:lnTo>
                  <a:pt x="90018" y="21600"/>
                </a:lnTo>
                <a:lnTo>
                  <a:pt x="88618" y="20200"/>
                </a:lnTo>
                <a:lnTo>
                  <a:pt x="88618" y="1400"/>
                </a:lnTo>
                <a:close/>
              </a:path>
              <a:path fill="darkenLess" w="90018" h="21600">
                <a:moveTo>
                  <a:pt x="90018" y="21600"/>
                </a:moveTo>
                <a:lnTo>
                  <a:pt x="0" y="21600"/>
                </a:lnTo>
                <a:lnTo>
                  <a:pt x="1400" y="20200"/>
                </a:lnTo>
                <a:lnTo>
                  <a:pt x="88618" y="20200"/>
                </a:lnTo>
                <a:close/>
              </a:path>
              <a:path fill="lighten" w="90018" h="21600">
                <a:moveTo>
                  <a:pt x="0" y="21600"/>
                </a:moveTo>
                <a:lnTo>
                  <a:pt x="0" y="0"/>
                </a:lnTo>
                <a:lnTo>
                  <a:pt x="1400" y="1400"/>
                </a:lnTo>
                <a:lnTo>
                  <a:pt x="1400" y="20200"/>
                </a:lnTo>
                <a:close/>
              </a:path>
              <a:path fill="darken" w="90018" h="21600">
                <a:moveTo>
                  <a:pt x="38003" y="7301"/>
                </a:moveTo>
                <a:lnTo>
                  <a:pt x="38916" y="7301"/>
                </a:lnTo>
                <a:lnTo>
                  <a:pt x="39299" y="7667"/>
                </a:lnTo>
                <a:lnTo>
                  <a:pt x="48508" y="7667"/>
                </a:lnTo>
                <a:lnTo>
                  <a:pt x="49065" y="8224"/>
                </a:lnTo>
                <a:lnTo>
                  <a:pt x="49065" y="8772"/>
                </a:lnTo>
                <a:lnTo>
                  <a:pt x="50910" y="8772"/>
                </a:lnTo>
                <a:lnTo>
                  <a:pt x="51276" y="8224"/>
                </a:lnTo>
                <a:lnTo>
                  <a:pt x="52015" y="8224"/>
                </a:lnTo>
                <a:lnTo>
                  <a:pt x="52015" y="13376"/>
                </a:lnTo>
                <a:lnTo>
                  <a:pt x="51276" y="13376"/>
                </a:lnTo>
                <a:lnTo>
                  <a:pt x="50910" y="12828"/>
                </a:lnTo>
                <a:lnTo>
                  <a:pt x="49065" y="12828"/>
                </a:lnTo>
                <a:lnTo>
                  <a:pt x="49065" y="14107"/>
                </a:lnTo>
                <a:lnTo>
                  <a:pt x="39482" y="14107"/>
                </a:lnTo>
                <a:lnTo>
                  <a:pt x="39482" y="9877"/>
                </a:lnTo>
                <a:lnTo>
                  <a:pt x="39299" y="9877"/>
                </a:lnTo>
                <a:lnTo>
                  <a:pt x="38916" y="10243"/>
                </a:lnTo>
                <a:lnTo>
                  <a:pt x="38003"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 Typ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VET course entries must be recorded on eB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pplies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FE 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provider delivere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BOS Suppor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dditional support materials for eBO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located on th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tional Education in Schools Directorate intranet at :</a:t>
            </a:r>
            <a:endParaRPr b="0" lang="en-US" sz="2800" spc="-1" strike="noStrike">
              <a:solidFill>
                <a:srgbClr val="000000"/>
              </a:solidFill>
              <a:latin typeface="Arial"/>
            </a:endParaRPr>
          </a:p>
        </p:txBody>
      </p:sp>
      <p:sp>
        <p:nvSpPr>
          <p:cNvPr id="88" name="">
            <a:hlinkClick r:id="rId1"/>
          </p:cNvPr>
          <p:cNvSpPr/>
          <p:nvPr/>
        </p:nvSpPr>
        <p:spPr>
          <a:xfrm>
            <a:off x="2843280" y="4076640"/>
            <a:ext cx="3097080" cy="1008000"/>
          </a:xfrm>
          <a:custGeom>
            <a:avLst/>
            <a:gdLst>
              <a:gd name="textAreaLeft" fmla="*/ 65160 w 3097080"/>
              <a:gd name="textAreaRight" fmla="*/ 3031920 w 3097080"/>
              <a:gd name="textAreaTop" fmla="*/ 65160 h 1008000"/>
              <a:gd name="textAreaBottom" fmla="*/ 942840 h 1008000"/>
            </a:gdLst>
            <a:ahLst/>
            <a:rect l="textAreaLeft" t="textAreaTop" r="textAreaRight" b="textAreaBottom"/>
            <a:pathLst>
              <a:path w="66350" h="21600">
                <a:moveTo>
                  <a:pt x="0" y="0"/>
                </a:moveTo>
                <a:lnTo>
                  <a:pt x="66350" y="0"/>
                </a:lnTo>
                <a:lnTo>
                  <a:pt x="66350" y="21600"/>
                </a:lnTo>
                <a:lnTo>
                  <a:pt x="0" y="21600"/>
                </a:lnTo>
                <a:close/>
              </a:path>
              <a:path fill="lightenLess" w="66350" h="21600">
                <a:moveTo>
                  <a:pt x="0" y="0"/>
                </a:moveTo>
                <a:lnTo>
                  <a:pt x="66350" y="0"/>
                </a:lnTo>
                <a:lnTo>
                  <a:pt x="64950" y="1400"/>
                </a:lnTo>
                <a:lnTo>
                  <a:pt x="1400" y="1400"/>
                </a:lnTo>
                <a:close/>
              </a:path>
              <a:path fill="darken" w="66350" h="21600">
                <a:moveTo>
                  <a:pt x="66350" y="0"/>
                </a:moveTo>
                <a:lnTo>
                  <a:pt x="66350" y="21600"/>
                </a:lnTo>
                <a:lnTo>
                  <a:pt x="64950" y="20200"/>
                </a:lnTo>
                <a:lnTo>
                  <a:pt x="64950" y="1400"/>
                </a:lnTo>
                <a:close/>
              </a:path>
              <a:path fill="darkenLess" w="66350" h="21600">
                <a:moveTo>
                  <a:pt x="66350" y="21600"/>
                </a:moveTo>
                <a:lnTo>
                  <a:pt x="0" y="21600"/>
                </a:lnTo>
                <a:lnTo>
                  <a:pt x="1400" y="20200"/>
                </a:lnTo>
                <a:lnTo>
                  <a:pt x="64950" y="20200"/>
                </a:lnTo>
                <a:close/>
              </a:path>
              <a:path fill="lighten" w="66350" h="21600">
                <a:moveTo>
                  <a:pt x="0" y="21600"/>
                </a:moveTo>
                <a:lnTo>
                  <a:pt x="0" y="0"/>
                </a:lnTo>
                <a:lnTo>
                  <a:pt x="1400" y="1400"/>
                </a:lnTo>
                <a:lnTo>
                  <a:pt x="1400" y="20200"/>
                </a:lnTo>
                <a:close/>
              </a:path>
              <a:path fill="darkenLess" w="66350" h="21600">
                <a:moveTo>
                  <a:pt x="27648" y="3985"/>
                </a:moveTo>
                <a:lnTo>
                  <a:pt x="34646" y="3985"/>
                </a:lnTo>
                <a:lnTo>
                  <a:pt x="38702" y="7484"/>
                </a:lnTo>
                <a:lnTo>
                  <a:pt x="38702" y="17615"/>
                </a:lnTo>
                <a:lnTo>
                  <a:pt x="27648" y="17615"/>
                </a:lnTo>
                <a:close/>
              </a:path>
              <a:path fill="darken" w="66350" h="21600">
                <a:moveTo>
                  <a:pt x="34646" y="3985"/>
                </a:moveTo>
                <a:lnTo>
                  <a:pt x="38702" y="7484"/>
                </a:lnTo>
                <a:lnTo>
                  <a:pt x="34646" y="748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chool Delivered </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ET Cours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rolm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ool Delivered VET Cours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student for the appropriate VET course and HSC unit valu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xample: Hospitality 2 unit 1675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intended qualification outcome. This will usually be the highest qualification attainable from the units being delivered. It is important to ensure that all qualifications entered are on the region’s scope of registr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922560" y="5941440"/>
            <a:ext cx="24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s of Competen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student for the units of competency that will be undertaken this calendar year, that is the </a:t>
            </a:r>
            <a:r>
              <a:rPr b="1" lang="en-US" sz="3200" spc="-1" strike="noStrike">
                <a:solidFill>
                  <a:srgbClr val="000000"/>
                </a:solidFill>
                <a:latin typeface="Arial"/>
              </a:rPr>
              <a:t>2009 units of competency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s of competency may be entered on a student or class basis. Use the “All Students in this Course” function to enter competencies on a class ba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2268360" y="38606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ing RTO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your regional RTO is correctly entered as the RTO delivering the course</a:t>
            </a:r>
            <a:endParaRPr b="0" lang="en-US" sz="3200" spc="-1" strike="noStrike">
              <a:solidFill>
                <a:srgbClr val="000000"/>
              </a:solidFill>
              <a:latin typeface="Arial"/>
            </a:endParaRPr>
          </a:p>
        </p:txBody>
      </p:sp>
      <p:pic>
        <p:nvPicPr>
          <p:cNvPr id="55" name="" descr=""/>
          <p:cNvPicPr/>
          <p:nvPr/>
        </p:nvPicPr>
        <p:blipFill>
          <a:blip r:embed="rId1"/>
          <a:stretch/>
        </p:blipFill>
        <p:spPr>
          <a:xfrm>
            <a:off x="324000" y="2997360"/>
            <a:ext cx="7920000" cy="261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s</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the Confirmation of Entry Rep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the Confirmation of VET Competencies Re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of Entry Report</a:t>
            </a:r>
            <a:endParaRPr b="0" lang="en-US" sz="2800" spc="-1" strike="noStrike">
              <a:solidFill>
                <a:srgbClr val="000000"/>
              </a:solidFill>
              <a:latin typeface="Arial"/>
            </a:endParaRPr>
          </a:p>
        </p:txBody>
      </p:sp>
      <p:pic>
        <p:nvPicPr>
          <p:cNvPr id="59" name="" descr=""/>
          <p:cNvPicPr/>
          <p:nvPr/>
        </p:nvPicPr>
        <p:blipFill>
          <a:blip r:embed="rId1"/>
          <a:stretch/>
        </p:blipFill>
        <p:spPr>
          <a:xfrm>
            <a:off x="1763640" y="907920"/>
            <a:ext cx="5240520" cy="5732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of VET Competencies Report</a:t>
            </a:r>
            <a:endParaRPr b="0" lang="en-US" sz="2800" spc="-1" strike="noStrike">
              <a:solidFill>
                <a:srgbClr val="000000"/>
              </a:solidFill>
              <a:latin typeface="Arial"/>
            </a:endParaRPr>
          </a:p>
        </p:txBody>
      </p:sp>
      <p:pic>
        <p:nvPicPr>
          <p:cNvPr id="61" name="" descr=""/>
          <p:cNvPicPr/>
          <p:nvPr/>
        </p:nvPicPr>
        <p:blipFill>
          <a:blip r:embed="rId1"/>
          <a:stretch/>
        </p:blipFill>
        <p:spPr>
          <a:xfrm>
            <a:off x="826920" y="1484280"/>
            <a:ext cx="7631280" cy="504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04:56:39Z</dcterms:created>
  <dc:creator>bwakely</dc:creator>
  <dc:description/>
  <dc:language>en-US</dc:language>
  <cp:lastModifiedBy>bwakely</cp:lastModifiedBy>
  <dcterms:modified xsi:type="dcterms:W3CDTF">2009-02-25T00:52:27Z</dcterms:modified>
  <cp:revision>26</cp:revision>
  <dc:subject/>
  <dc:title>eBOS VCS Entries </dc:title>
</cp:coreProperties>
</file>